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  <p:custShowLst>
    <p:custShow name="(1.1)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2DB-EBB8-4B48-9B46-DBBB1CEF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A28-72AE-4A35-918E-A81CC67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1A0-DA76-4BDF-8FDE-14BE49C2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059-BEF2-4DD5-8E3D-D0A25F82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902-1C94-4B13-861C-2AA4961E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8BB9-CC8E-480D-99FB-A1B8F84A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869-EFC4-40F5-95A1-D20B7F9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BE62-E716-4A33-B1BA-06215FCB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F5B1-B435-4554-998A-42263444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C81-6837-4485-9A76-4622B75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A22D-A335-4D38-A6AA-43FA16F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726-A993-4672-99DB-46059EC0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6B19-802B-41D9-AC71-646C80C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931D-A47E-4164-9673-895192F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12C3-B19E-455D-A666-B9DA4946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4C1-CCC7-4284-B61A-20C200D8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8D6E-B484-4C6A-8A94-0538446C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89C4-D376-4722-AF60-4C3FF1AF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DB23-DF22-4F13-B5F8-1B26B849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B301-7167-4FA1-B4A6-B50D7BE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536D-4D43-4801-9601-AE816CC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6153-6111-4F20-8F73-523912EB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CDC-2785-43C9-A0D6-C5866F95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B737-F9FB-4C4B-8CCF-E4C87031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3AF8-E16F-4FD9-99D6-4FF862C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8986-FDEC-41E6-A79A-AE31001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C591-97CC-4D3F-94D2-1828FEB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B2A0-2B32-4076-8AC7-E322026F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4B20-254C-4B36-823C-F872D0A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6A12-C57A-4EBE-9402-7DD17C1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42C6-D398-408C-BDB3-A92F0249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37CA0-A05B-4483-B95F-DF698183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43A2-4241-4F88-9669-8B333E7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260-AE81-49CE-8FA8-BD6B93E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2DB6-04AA-4789-BD17-F3994A5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D3AB-496A-4F20-82FC-37686B8B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1C08-42E2-4899-8133-3FE80504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2E74-0754-41AC-8465-129AC24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FC31-9423-4631-8931-8C75D3A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4B951-655C-4E66-B913-DC0B2941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42A5-834E-411F-909E-66D88FF8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4E9F-CCD3-431A-AF32-512E91E1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C421-D7E1-4BCF-BBA3-A66D45BE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3EFC-88DC-48F9-8189-8CE10897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8C2-4FBE-4D3F-8818-93F7FA9F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8514-C1F5-4AC6-9185-8F201A22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F9D7-8753-48B5-B2F1-476419B5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4C30-23C8-4273-BA44-6BF8F68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3793-A751-413F-BABF-1552EA0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EDCC-603F-466E-A5B0-98425E4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55A0-95A8-4AAF-BED6-8D620C4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45EB-3E76-474F-82FD-194FF936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170F-EE3C-4A08-8F98-27338CF6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CE397-8B96-4C22-9F23-4F4C4E6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8D1D-F001-4437-920A-815B4841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CAF-D24D-4419-A717-B8242ED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F54A-7252-4CE6-887D-CCA65E1D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7319-0794-495C-AC1A-8D171F6B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FF4B-0E45-4731-B3DE-D9FF2C91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F475-A92A-406C-BE41-55DFC620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75C5-93DA-44A5-93DE-7D2D114C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A2515-C99E-4DFD-93F8-D91CED0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C951-4C98-42A5-B0C6-8EFBADE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5EA7-D2A5-4D20-B0F7-795D799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4399-72EC-43B6-AE02-99D6275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F2DC-FD7C-44A9-88CC-DED37FB9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320-B741-4630-B63A-8E470E96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F548-811B-4134-8770-FEBB5415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E232-C00D-49F1-841F-F39E8FCD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2FC9-DAF1-4C36-B4C8-0067809D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8E5A5-66ED-4754-B4D5-E0216A21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7254-1045-4C4B-9B82-69AA8CF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D1C9-7B59-4AB6-9266-86A22B22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580F-C157-4F4C-893D-003D5EAF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73676-115B-4A47-8535-BBF46C9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4A81-863D-450D-8E89-1F02DAC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61A13-5A93-46F5-B71B-08C817D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C1D-E559-49AC-ABE1-30973CCA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0135-9A6D-4B49-B19C-B669EFF4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CAC19-3DAB-4982-9C28-46655B0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A12A2-2884-40BE-B7C4-397F11D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29D1-8DAA-45EE-8749-5B7FEDF1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8020-EF59-4CA3-AE35-363226D8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AB8-CE60-4DAE-873B-8E06D80B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69A3-0154-474F-B6F8-4BF30EB1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4468-696E-4DF0-ABEE-7D56DA9032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80F-E5E5-4ED2-8A75-0D4F2CFE9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9AE-BA08-4FF9-A864-4098B5FE8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DD7-3A90-428A-9224-CB1FE993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04D-12B9-47AE-8F16-6E598CC0E2C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624-8718-4507-946F-774BC161889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1517760" y="4645080"/>
            <a:ext cx="6516720" cy="18414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76a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76a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_______</a:t>
            </a:r>
            <a:endParaRPr b="0" lang="en-US" sz="2400" spc="1" strike="noStrike">
              <a:ln w="0">
                <a:noFill/>
              </a:ln>
              <a:solidFill>
                <a:srgbClr val="0076a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la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ake Vic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s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that  sounds like laughter?</a:t>
            </a: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Hy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hottest 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b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mall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l M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long is the coast li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8,950 mile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3236"/>
              <a:gd name="adj2" fmla="val 1277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animal has big feet, b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has only three to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Rh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econd m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populated coun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thio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068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old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ush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different species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nimals are the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looks lik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t has a tear mark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on its f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990720" y="3808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eet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2860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Anim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228600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Tri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934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Other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1447920" y="12952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fifth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big is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Square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1.7 square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w 1, Col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 horse like animal wi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Strip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Z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d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8380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tribe  is 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for their mask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ob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ongest river 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N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big thi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ma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6002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countries 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empus Sans ITC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tribes a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About  3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88303</cp:lastModifiedBy>
  <cp:lastPrinted>2001-01-31T16:21:13Z</cp:lastPrinted>
  <dcterms:modified xsi:type="dcterms:W3CDTF">2010-10-29T16:01:18Z</dcterms:modified>
  <cp:revision>9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